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752-DA5E-4AA8-8E34-84728708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79B-899D-46D2-B2B7-E201B525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181FD-7AF6-42A0-AE81-D832442B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01D5D-642F-4B6A-BEA8-5030C359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19B88-EB4F-420D-902E-B642AFEC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DF5C3-8D5D-4E84-A794-D9F70C09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052AB-0438-486B-9232-FF6DB20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02DCE-C89C-471F-9BC4-D16FB1DE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28CD7-8832-45DD-BD95-A7CBA87C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7CC13-9EC8-46C0-A393-2434DE65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1A30C-C207-4126-AC8F-CC1E703D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AA656-014A-4A4A-B129-BC39B299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82D-A2F4-43B5-B7FE-781322FA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71C7A-A1E8-4AE5-BA57-88EEAA50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51220-8AA8-49E9-829C-9434C3DB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8F2E3-BE0A-4B9D-8964-A7086DED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6EC98-F634-4F0F-97D8-9EF2BCD3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A7AB8-14E0-4C30-9238-4819F0DE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76948-6356-478A-9429-C254B0A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4F201-B583-4048-B742-2FFEAF68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C9924-DD24-4874-B79F-9834AF63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E8C84-E7EE-4255-BABD-49DDA6F2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B5823-4825-43F2-AC1E-468FE52C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6D9-B8D1-4A77-87CA-7199FDC8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D4C6C-5D7F-4F9E-936C-BE156E42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45192-BE23-403C-95CF-BB20D893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3CE36-72AF-4298-8FBE-0786DAA7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9D40E-58AD-420B-994B-8AD5EBB2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B9BDE-F941-4582-BF0C-6CA2FAB4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2F917-B6C8-4251-A96B-D254AB05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3E6D5-60DE-4909-A7C9-61AC6041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7910B-C88D-477E-92AE-632F73F7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8FDFF-1F92-4C3D-88DA-F0DE5439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C6184-51EF-4285-BB5D-957C7CE4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288E-8189-4343-90FA-C5B9374F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FDECF-9FDC-4FE4-B0EA-9FF3D802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3B100-9FC4-4EA4-8DAB-4D12E7E2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15BF1-0EE8-44A1-AB94-DF703DBC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8E2A5-01EE-4841-979D-BC273FE7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B5B1E-7EBF-4ABA-BB70-FBD34A87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325C7-6925-4B5C-A32E-F988AFAA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5369B-D244-48E4-868A-FECD49EC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11885-EE41-478E-8970-D5203ADF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6D9E4-CC82-49A7-B3F4-EDFC1A3B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ECFD9-D2D3-489D-94A0-87338FA8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E1BC-E649-421D-919F-6A7F6049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82A3D-0CFD-44CE-8DA1-8B51B5FD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9CB93-3F0F-4B99-91C9-90E9D6FD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2E7BB-2419-4866-9B51-E91A95E2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66B30-C00C-4E9C-8C9F-D7A44383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34D60-B738-4576-9235-981916A0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C9C93-B65A-4A2B-8F6C-9513EE70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6AB2E-86A9-4F98-B151-97B334EA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2E207-1338-4158-A30F-6D23EB9D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A4F28-2260-4BE0-970C-703C6D0D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E3A63-F83B-4AD3-9DCD-A5FF883E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2461-F8BC-453C-BB8F-4F07D5B2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3585A-7720-4549-8D6C-B946AA1E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AA18C-DFD9-4104-8E6A-F189AC9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0FC17-4A9B-409C-86E7-8BC8F1FD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31980-9177-4DB4-8E58-994079BC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4B50D-C1D6-438A-BFB8-AED7A438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1CD95-83F2-4DED-8293-6A606E93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91654-CA9F-45A0-BCC7-C9B24491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3CB59-5A7A-4C2C-9901-D0C8C190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27787-D754-438D-8B33-FCEE988E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4DB93-3138-4F62-A8E2-AC6150F1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E384-03AA-4234-9355-D9C4FF3A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B2123-0910-40A1-B12A-43AD2BCE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63793-BDC8-47EC-9CA0-E6087151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5DCC1-9714-4C52-B18D-04C0554D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4E0A2-A0DF-41B6-B68F-C0508407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53247-252E-4F61-A13A-A8C9F778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E2A62-2595-4EB6-9860-5E727D22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6C13B-7E55-429C-BCC8-640A061B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809AE-23DA-4C1D-9F12-9129C650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D2CBC-7066-44D3-A6B7-7A9207BC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C6B67-7634-4D1B-A9B5-95B4FBDB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47C9-A37F-43A9-90C9-AFBA0F78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D1EAE-52B5-462E-9FCD-4EF21842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19921-4747-45A2-A099-0A0502AC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67F4C-3063-4843-99C3-86A49476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024E1-19B7-4BE3-8949-2786B0CC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70B52-92AF-4B98-A86B-004572BC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0B337-3A06-48B8-A816-E7285875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17B81-CEDF-409C-9A73-BDCB1C97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CFA1F-A753-40CD-A5B9-C97B2D6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D5418-0AD8-4720-8718-63D8E436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6B283-7368-4D10-A32E-F2704079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9249-5009-4D49-852F-D11E032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77B8E-20CE-4798-B3E0-4CB1D8E2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C0BA4-76C0-4F27-A8CF-4931AAF5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C5744-C160-4E06-B7CE-785C690C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091106-1FB0-467E-899D-B823DD75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55390-1CC8-4891-B44A-24451D24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12D37E-E5E2-48B0-BFBA-3001EAB1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2412D-CA0B-41E1-AE79-12522B26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F42FDF-21A0-4F77-916D-F31199D9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105FF-D182-4D51-9515-3D289F05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2D90A-535C-4E01-8837-BC766701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AC12-66B1-4C08-AAB0-D5A67CBE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CDB0A-532E-4104-BAB1-AE996E31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21847-8146-4EF9-BCB3-9F78B954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B9F42-3944-44D0-997B-E6E5E1D7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7E78D-AC27-4425-A014-E3534DAE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2F0A6-8D12-4694-8B33-7E118396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098A7-1810-4619-A413-D64AD52F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3B470-68FA-4DAB-97EF-E0360D3B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649683-4D18-4AD9-BAE2-950F1A00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8544F-07CB-4625-B255-37ABBD14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012BD-4709-41C0-86B7-DDA82774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A88-9D1A-42CA-AB73-E3E66E5F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0E30-67B9-48A7-9665-FE8C292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EDEE37-A6A6-40FC-AA0B-B3595AB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DA397C-2BAA-409E-844D-03969122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2726EE-1ABE-42E7-BB2A-A65615F2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E5B9DC-06A6-4CC7-9897-446A841A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0D23B-902A-4C10-99F0-5C20E94E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3647BF-A647-422D-8E4F-5BA252C0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58AEE-ECEA-4527-92A1-D53F463F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A3B2FE-4D69-4D22-A37B-CA23D573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834D0-29C7-487C-B8E5-738DCAD8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A4424-7334-4A1A-9F12-EA91D56B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0CA7-B1A4-463E-971F-7EFA4EBD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A70EA-C651-4CBF-92E2-F1377CDF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06E3F-E025-472B-8D6D-17077511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DEFCE-59F8-476C-B204-0862F47D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95098-698F-46BC-BD88-C7DCB9A2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0E893C-572C-489C-9A7B-CF0B4FA5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5DB956-CB52-425B-B2AF-4E86D8D0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CB464-58D3-491E-8C7C-40C22FA6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46DFD-56B2-4C6C-A16D-FC145D64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30938-9A5C-461C-A31B-14A0C112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6835A0-23B3-4517-BBEB-3E99569A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4B86-1973-4308-A640-C90B769B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826168-CBAE-4167-B97E-D4B07472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A7809-A850-4C37-B17F-A0A35495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34474-1EBF-4286-A27C-0ACB2E0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EF927F-34FD-46E6-AA52-BCAD4992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B0C191-46BF-46E8-81F9-55EF16A8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9DADA-D68B-436A-9C2A-066A3A62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7AA053-3D8D-4A33-808A-C7BC047A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D6470-59E5-40D5-A495-6490BF88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973404-3DA6-4A78-B3F3-A834A31A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ACF09-7D01-4F65-8516-C8CD7424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18EF-B3A5-49D4-8FA8-966F8574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5BC48-ED0C-4B92-B984-FB5E5DBB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B13C23-191B-483D-9964-004002DC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0D7AF1-DA6B-42CD-8E72-60780DA7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503811-09C0-4D63-90D8-D8DB172A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92AF70-5D82-4593-A02D-8023CB6D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BE81C4-16C0-479F-937D-4B54FA4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BFD77-9867-4701-BA2F-3883B3A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29D8D-8A33-46D6-807F-F6E6441C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BC882C-13E9-4B8B-8523-64DB6A71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A2F91-35A9-4E28-BE54-4C6B0E21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A0DD-A210-42E7-B8F3-D6408766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564B7C-4BD2-400E-B181-94D53651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0980EC-A81D-44E4-963D-545837C1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43DE7D-130A-46BB-9B04-83187E2A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5555D6-0E95-4763-9BD0-EAF38ED2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0F3E0-0228-4447-90FD-FAFF5D48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91AC3B-56AC-46B0-95BA-90B52B71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D9DDA-D286-4D9E-938C-B91E19DE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EEF4CE-933E-4541-8210-A28252CF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86E6F1-2484-440C-A72C-4D722F69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8E5395-E01F-465D-88EF-EFC29549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ACB8B-2616-404F-82F7-BC3C79C7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C39F8-42FF-4655-81DD-BF42F1AA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F6C4C2-4BF9-4338-B521-5A850196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8A5990-8419-441C-B2DB-65B2B54A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6548-8D1C-4788-9DA9-7F727EBA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ADE6F-3F74-4EA2-AE64-A51C95B2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2C15-3062-43C0-8C8B-66337E72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3318-FCD3-49C4-BB78-11E93F45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C1C-84AE-43FA-B5E6-6ABB3ADB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3587-6C87-4481-A56F-5769E0CA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2629-05C3-4710-A746-EFA2E1FA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EA18A-2B2D-4EEE-905B-8A01977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F53A-BBE4-429F-9D4C-92515458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7302-392C-4038-B0F2-DA3BB2AC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FD77-36B4-4304-9DAA-DDE889BF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C79F-14DF-4261-8487-980ADEED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A3CB-32D0-48A1-8EC4-762263F2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A3A53-3294-4424-9653-21A4A751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08896-1257-49C5-B0D5-BB5B7C39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B34-15CB-4EC5-BD6B-8F0F138C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47E2-2F23-4908-A9BC-80BFB041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5B04-F562-46C6-89F1-73BC3208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4537A-9225-4197-8318-F1A5AD9B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DF4FE-0A99-4D84-B294-EC49B38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FA04E-AD75-4CAD-AA85-E51E5099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1C41A-E0E1-4080-8A0E-7023B537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FD01A-CE38-4DA8-96D6-DC865149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60621-818A-4731-ADAD-0967DA46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54BE7-C4ED-4E15-9D04-AE6A6E50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2BA7-F187-40C0-B931-A72D274D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403-6EE0-4B28-84A1-E870B1B1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35D0F-C674-4561-9328-78AEE7DE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5D9F-5257-46D5-896B-7DF9096B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FD5DD-DE50-41D6-8453-05D6F172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55E8-A77A-45FC-9A02-897760B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3B0EB-CAFA-4F30-8A59-632DAFAD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67009-2535-4599-B6EE-058ABFC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C5F64-8349-471A-8818-8FBD5630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25FE7-8410-42C8-B154-2952C630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6734D-4142-45B1-A8AB-068F06B8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23FD9-1F14-4E62-A4AD-535C3B72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CF6-DD77-4634-AAF7-51FC3119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D3677-F90F-44FD-9156-264A0FE9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2D088-ACA3-4F01-9615-503EAE07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EB12C-A2F9-4E54-A7F8-D6702E16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1565-6ADE-44C3-BE14-BCD828A5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FE204-75CC-4ADF-BED0-9EB65A16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D7EC1-291E-4DF8-8D63-D740C55D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0E0C1-9F48-40B5-B61B-C01F0588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097B2-64B3-4F55-8FB2-1E64394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BDB89-56AB-45AE-A89A-F4834EFE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7064C-E338-4B5F-96EB-6429E9E6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938-8BE2-40F9-8829-C4998491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76BB0-2079-4ECB-A3DF-1494FB73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48C64-FC62-4E5D-8AED-3EE16B9D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2272F-0EAA-4606-B246-32331FCC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F8952-021A-4E02-9693-245A88FE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A7F39-4928-4D27-9286-62E94B40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3A339-C2B0-4747-AAC4-55F8DD0B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E8E65-1D2B-4BAE-9053-37EA0393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0E584-67B6-44F3-97E0-5A583DFE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D83DF-C292-4802-9CF3-A770DD6E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B1067-54C5-4837-9D07-C0DA2BE3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EF0-E395-4C01-91E7-9E8C47D4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A80B0-E6EB-45D7-BBD3-6F8EE6FF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25FF4-290E-40EB-9EA2-6320CFD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CC4B9-3007-4166-ABC0-19ECFBD8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DBC16-F94A-4AAF-A84D-ABBD743E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79A2D-27F9-4521-9B9B-AE4B3DC8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9DDF-0B9C-48E8-8A15-015CF779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27E46-EF40-49D1-B57B-8F3D80AA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F81B4-1DA0-4372-9B43-0D4AA8FB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4027C-8261-4578-B855-8053312A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5F7CB-340E-4BCA-B521-34110859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29E-E4DE-41E7-BE97-2061DF1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922E1-204D-4F5E-A055-E3480163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BB974-35CC-4D03-9FB9-54A30597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0140F-F532-4C95-9AE3-DC0B6C0F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0F22F-28D4-4C05-A4DA-C0558A4B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482C9-6D3E-4047-A75F-B61A87BF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81D4C-26E6-436E-A8BD-8E4492B8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8F485-B5B9-4ECA-AAFD-15200C6C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00200-E524-4CE8-B57D-9A488F01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69357-25DC-401E-AC3D-C1DE95B9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1102B-CDC8-486B-80A5-1FDEC85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EF51-F95B-49AF-8ACC-7D5A8E88C8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FE47-32A7-488B-9BF4-698372C550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9B82-0DA4-4216-9301-1D5AC15BB0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85D4-99D5-4ECD-8C14-F3DE5C7102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9FE9-C948-4E99-94E2-5B5106CEC4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C5CC-E874-43FF-8D08-EE23DCADCB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39D7-DE05-4845-944B-16123990F7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7F54-5D55-462B-9376-64C55E3B3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0D76-F83C-4894-9C92-6D1F2E1A9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2C54-C452-436D-930B-2E59D7B77D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9A1C-06DC-4E99-BC1E-886569C16F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CB39-88C8-40E3-AD83-83F9C074FC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CD5C-AC2C-464D-B2AC-2B5B33F0B2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CDDF-EAEF-4F54-B0DD-776C84CD0E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39F3-413D-4FA0-9A92-8D7D39F099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7581-BA07-4713-BB40-B46FBC3276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7FE2-C5A2-4405-AB14-F291C50158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2022-9BB0-4346-9941-CB3E8C866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B0EF-7DCE-444E-9FE3-670899B37E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281E-F033-4DFA-BADE-2C80DA9376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0F68-F8E5-4AE7-8952-286720C98A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4DA0-D70E-45A1-9466-CA1B5FA15E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54DA-1275-4F1D-A1E0-497F7C1851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1798-1FE2-459C-8A2D-37D9DC0C7D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9515-2F36-418C-BE2A-C8A6E402E1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D4C5-13B5-40D4-9E63-DF32E84212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56D2-4F09-473C-9E01-CAF469BDCB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BAEE-C2E5-469B-BF60-EDFE90C27E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620E-B1CB-4832-99AA-0B2D660055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7036-D4D9-4933-9B2B-F219D29DC9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D24E-E028-4AD1-9AC3-8A734F9593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7426-FD0A-45E0-8E1D-AE16925710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3FD4-1C3C-406A-B12E-736AB6EAF7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F7AF-A2E1-4CC4-B7AA-0ADE1C116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2598-00D7-4677-BFAE-5F6C3B35DE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7C9C-6D61-4CF0-A86C-1C14E4AF8F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8F16-F4BC-48ED-9020-EBDBB5C7D1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D9F4-C949-4C65-B3A1-07B1C74E5F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428A-7D73-4919-B3BF-FCE40F9174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A9BD-3348-467E-BFD7-CAF7B31401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62040" y="2976480"/>
            <a:ext cx="60199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69633" descr=""/>
          <p:cNvPicPr/>
          <p:nvPr/>
        </p:nvPicPr>
        <p:blipFill>
          <a:blip r:embed="rId1"/>
          <a:stretch/>
        </p:blipFill>
        <p:spPr>
          <a:xfrm>
            <a:off x="547560" y="1833480"/>
            <a:ext cx="8048880" cy="3191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6769440" cy="503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826920" y="3471840"/>
            <a:ext cx="6769440" cy="50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6769080" cy="503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755640" y="4522680"/>
            <a:ext cx="6769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8609" descr=""/>
          <p:cNvPicPr/>
          <p:nvPr/>
        </p:nvPicPr>
        <p:blipFill>
          <a:blip r:embed="rId1"/>
          <a:stretch/>
        </p:blipFill>
        <p:spPr>
          <a:xfrm>
            <a:off x="1038240" y="1052640"/>
            <a:ext cx="7067520" cy="224784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68610" descr=""/>
          <p:cNvPicPr/>
          <p:nvPr/>
        </p:nvPicPr>
        <p:blipFill>
          <a:blip r:embed="rId2"/>
          <a:stretch/>
        </p:blipFill>
        <p:spPr>
          <a:xfrm>
            <a:off x="619200" y="3403440"/>
            <a:ext cx="7905600" cy="2257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4413240" y="1355760"/>
            <a:ext cx="649440" cy="7048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7308720" y="1355760"/>
            <a:ext cx="649440" cy="7048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4398840" y="2247840"/>
            <a:ext cx="649440" cy="7048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7365960" y="2290680"/>
            <a:ext cx="649440" cy="7048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2050920" y="3716280"/>
            <a:ext cx="649440" cy="7048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8"/>
          <a:stretch/>
        </p:blipFill>
        <p:spPr>
          <a:xfrm>
            <a:off x="5076720" y="3746520"/>
            <a:ext cx="649440" cy="7048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9"/>
          <a:stretch/>
        </p:blipFill>
        <p:spPr>
          <a:xfrm>
            <a:off x="8042400" y="3732120"/>
            <a:ext cx="649080" cy="7048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0"/>
          <a:stretch/>
        </p:blipFill>
        <p:spPr>
          <a:xfrm>
            <a:off x="2109960" y="4624560"/>
            <a:ext cx="649080" cy="704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1"/>
          <a:stretch/>
        </p:blipFill>
        <p:spPr>
          <a:xfrm>
            <a:off x="5003640" y="4624560"/>
            <a:ext cx="649440" cy="704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2"/>
          <a:stretch/>
        </p:blipFill>
        <p:spPr>
          <a:xfrm>
            <a:off x="8058240" y="4638600"/>
            <a:ext cx="6490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57040" y="743040"/>
            <a:ext cx="8629920" cy="5371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211640" y="3327480"/>
            <a:ext cx="2089080" cy="5032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835280" y="5675400"/>
            <a:ext cx="936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09480" y="1700280"/>
            <a:ext cx="7925040" cy="3457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1979640" y="2852640"/>
            <a:ext cx="649440" cy="503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4788000" y="4581360"/>
            <a:ext cx="649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281160" y="324000"/>
            <a:ext cx="858168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7352" descr=""/>
          <p:cNvPicPr/>
          <p:nvPr/>
        </p:nvPicPr>
        <p:blipFill>
          <a:blip r:embed="rId1"/>
          <a:stretch/>
        </p:blipFill>
        <p:spPr>
          <a:xfrm>
            <a:off x="590400" y="1433520"/>
            <a:ext cx="7963200" cy="3990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195640" y="2003400"/>
            <a:ext cx="649080" cy="503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1763640" y="3156120"/>
            <a:ext cx="1152720" cy="502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7020000" y="3141720"/>
            <a:ext cx="1152360" cy="503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7020000" y="4292640"/>
            <a:ext cx="1152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6324" descr=""/>
          <p:cNvPicPr/>
          <p:nvPr/>
        </p:nvPicPr>
        <p:blipFill>
          <a:blip r:embed="rId1"/>
          <a:stretch/>
        </p:blipFill>
        <p:spPr>
          <a:xfrm>
            <a:off x="628560" y="2271600"/>
            <a:ext cx="7886880" cy="23148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1042920" y="3414600"/>
            <a:ext cx="7705800" cy="503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900000" y="4019400"/>
            <a:ext cx="77058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5300" descr=""/>
          <p:cNvPicPr/>
          <p:nvPr/>
        </p:nvPicPr>
        <p:blipFill>
          <a:blip r:embed="rId1"/>
          <a:stretch/>
        </p:blipFill>
        <p:spPr>
          <a:xfrm>
            <a:off x="281160" y="1314360"/>
            <a:ext cx="8581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4276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5952960" cy="40766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4277" descr=""/>
          <p:cNvPicPr/>
          <p:nvPr/>
        </p:nvPicPr>
        <p:blipFill>
          <a:blip r:embed="rId2"/>
          <a:stretch/>
        </p:blipFill>
        <p:spPr>
          <a:xfrm>
            <a:off x="826920" y="4724280"/>
            <a:ext cx="7972560" cy="2105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1116000" y="5719680"/>
            <a:ext cx="4176720" cy="50328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4279" descr=""/>
          <p:cNvPicPr/>
          <p:nvPr/>
        </p:nvPicPr>
        <p:blipFill>
          <a:blip r:embed="rId4"/>
          <a:stretch/>
        </p:blipFill>
        <p:spPr>
          <a:xfrm>
            <a:off x="669960" y="627120"/>
            <a:ext cx="5629320" cy="40291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971640" y="6237360"/>
            <a:ext cx="79214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2231" descr=""/>
          <p:cNvPicPr/>
          <p:nvPr/>
        </p:nvPicPr>
        <p:blipFill>
          <a:blip r:embed="rId1"/>
          <a:stretch/>
        </p:blipFill>
        <p:spPr>
          <a:xfrm>
            <a:off x="228600" y="923760"/>
            <a:ext cx="8686800" cy="5010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258920" y="4782960"/>
            <a:ext cx="6337440" cy="503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71640" y="5329080"/>
            <a:ext cx="7704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41:3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